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F38C-ED5D-4428-8C6C-DA967A31BE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25E-478A-4593-9823-3667E3DD9B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55F-D4D4-4BEF-A7E3-DC34EF3339F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143A-3F15-4859-A267-0BA26037B92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5E31-CB99-40D1-A2B5-365374C5C3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3444-8209-4175-B3DE-F0B6067744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2E1-E873-4491-86B4-F39CC01E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D84-F8E5-422F-B87B-FCB3B7EB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ABE-A18F-428E-BE5F-7BFE55AF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38B-B851-4B29-BB35-F9A66FA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3E0-7294-48B3-82ED-C422C6BC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D89-3736-4001-9E37-EC258FE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AB1-A366-4108-A7F6-00708A8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57E-9DEA-4FCA-9FF5-38CB2864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FEC-B228-44B5-87D8-4F910B9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8F0-672D-492F-85ED-3023216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B87-46DE-478C-BCD7-3E8AD38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CAF-D9D3-42B5-9FA4-773EE91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8F4-09D3-4B97-8442-6AC99921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11-01T09:18:48Z</dcterms:modified>
  <cp:revision>99</cp:revision>
  <dc:subject/>
  <dc:title>Slide 1</dc:title>
</cp:coreProperties>
</file>